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333-24C9-4049-AFBD-BCC1BEAB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A59-A825-4245-8F5B-45AAF02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BA7-89B0-4AF9-A1D2-E924FECE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46E-14D4-4BDE-8D08-145FD7E5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DE3-D883-4ECF-B99D-70D0BAD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5A50-4D38-4D5F-9552-4A65532A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5EDF-9155-4C13-94F1-F087EB55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B5D-28B9-4513-A94B-1006A55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C397-5BA3-4E93-8EE0-7DAC8DD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E2A4-C707-4EA9-BE1A-C9415499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DC07-E02C-4C89-8E77-56E868E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A79-44FF-4DCC-8595-29041CF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EFD9-0385-4E03-AFA7-9B0A51B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C3A6-F89D-4E8E-8317-312D07E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C611-F2FA-438A-94CB-92ED034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2B1-F661-4CEC-A498-7F9D74DA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824A-3452-44B0-9B69-BDBF9A96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7DE-2070-43A0-BAFC-4821334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011-82C1-49A3-AAED-9575FDAC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4AC-20D1-4A11-A848-DD4D281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3D4-EC81-40C3-BAB1-51178FD0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4FD-9853-4E24-802F-FD83066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766-0976-4856-A0BF-6614EDB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FF3-6B98-4AC7-BEA6-8F8BFB8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557-C39A-430C-95EF-249E789141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980-69B0-4B60-9398-66F789FB9A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ГРУТОВАЊЕ КАНДИДАТ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кстерно 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рутовање кандидата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ржишту ра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опц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окупно тржиште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гмент тржишта ра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фокус је на неформалним методим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глаш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ан 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литетан одзи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јављивањ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слепих” ог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р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пецијализовани час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невне нов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дио и телеви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генције за запошљ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ржавне агенције за запошљ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ватне агенције за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пецијализоване приватне агенције за регрутовање менаџера и специј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егрутовање преко школа и факул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форме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време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нгажовање током распуста и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ерманент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кон завршених студ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лативно јефт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уздан нач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ласка до квалитетних поједина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едостатак иску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еп успеха студирања и перформанс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тали методи екс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фирмативно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формални методи екстерног регрутовања канди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епоруке постојећих запосле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пошљавање бивших запосле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амоиницијативно пријављени кандид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Евалуација рада специјалиста за регрут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Евалуација извор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купни трошк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купан број пријављених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рошкови по запосленом кандид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цио сел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жина останка кандидата у организ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формансе примљеног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азлике у квалитету из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це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привлач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валификовани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кандид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роју који омогућа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јбољих појединац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попуњавањ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пражњених радних ме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рутовање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ти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: 1) број људи који ће се пријавити, 2) тип људи који ће се пријавити, 3) вероватноћу да ће пријављени кандидат прихватити пос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врха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ефинисање потреба за регрутовањ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ндидата у складу с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ланом људских ресур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ивлач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што већег броја квалификованих кандидат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з прихватљиве трошк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ћањ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опе успешног изб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нди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ц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зличити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вора регруто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илозофије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в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радиционал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ценат је н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аксимирању бр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јављених кандидата за упражњено радно место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изак рацио сел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време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ценат је н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јављених кандидата за упражњено радно место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еалним описима по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Аспекти регруто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литика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оме се одређују приступи и стандарди који ће се примењивати у привлачењу кандид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цио селекције (рацио прино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ат за предвиђање броја кандидата који је потребно да се пријави да би се ангажовао квалитетан кандидат (кандидати) за упражњено радно место (радна мес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рно vs. екстерно регрут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но регрутовање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напређење запослених на више хијерархијске поз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зано с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лановима сукцес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мештај запослених на друга радна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ештај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ерманент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отирање послова између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ирање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ивреме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рак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зив постојећим запосленима да се пријаве на упражњено радно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а сво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ед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достат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ришћење инвентара вештина (талена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жан ј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валитет подат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адржаних у б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ност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знате су карактеристике и перформан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ослених шт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мањује могућност греш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избо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држ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отивациону компонен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штеда новца и врем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регрутовање, селекцију и обуку запосл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Јачање перцеп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гурности запосле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Недостаци интерног регрутовањ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напређ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ослених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ез потребног иску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 попуња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пражњеног радног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мена организације пос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а може довест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флик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твореност организ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што негативно утиче н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ов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лексибил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3T06:34:43Z</dcterms:modified>
  <cp:revision>143</cp:revision>
  <dc:subject/>
  <dc:title>Soft and Hard Skills Development: A Current Situation in Serbian Companies</dc:title>
</cp:coreProperties>
</file>